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56C-7565-4B5F-A745-B4306AD6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0B1-CF9B-40A5-BB29-D432637C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9C6F-030D-4B0A-A7D2-D36F6429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56BA-622A-4264-90D3-BCBDF73F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497-1CCC-4958-9E83-ABD29ED4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7C2-1B62-4129-9E43-3ED94E7D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21C-90A5-417D-9579-3E9A7B68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59E2-4F21-4841-8C59-04CE7D87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76D-BB65-43F5-89FD-31D521F6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441-BDD3-443D-87DE-5E712262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B6B-84D0-445C-8EC9-4E513E59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66D-2B11-4E2D-94F7-DCD2033E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73C1-7A86-45A6-8F4A-B3975CB58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Calibri"/>
              </a:rPr>
              <a:t>L</a:t>
            </a:r>
            <a:r>
              <a:rPr b="1" lang="en-US" sz="7200" spc="-1" strike="noStrike">
                <a:solidFill>
                  <a:srgbClr val="ff66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ffcc00"/>
                </a:solidFill>
                <a:latin typeface="Calibri"/>
              </a:rPr>
              <a:t>s</a:t>
            </a: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7200" spc="-1" strike="noStrike">
                <a:solidFill>
                  <a:srgbClr val="33cc33"/>
                </a:solidFill>
                <a:latin typeface="Calibri"/>
              </a:rPr>
              <a:t>C</a:t>
            </a:r>
            <a:r>
              <a:rPr b="1" lang="en-US" sz="7200" spc="-1" strike="noStrike">
                <a:solidFill>
                  <a:srgbClr val="33ccff"/>
                </a:solidFill>
                <a:latin typeface="Calibri"/>
              </a:rPr>
              <a:t>o</a:t>
            </a:r>
            <a:r>
              <a:rPr b="1" lang="en-US" sz="7200" spc="-1" strike="noStrike">
                <a:solidFill>
                  <a:srgbClr val="3333cc"/>
                </a:solidFill>
                <a:latin typeface="Calibri"/>
              </a:rPr>
              <a:t>m</a:t>
            </a:r>
            <a:r>
              <a:rPr b="1" lang="en-US" sz="7200" spc="-1" strike="noStrike">
                <a:solidFill>
                  <a:srgbClr val="cc66ff"/>
                </a:solidFill>
                <a:latin typeface="Calibri"/>
              </a:rPr>
              <a:t>i</a:t>
            </a:r>
            <a:r>
              <a:rPr b="1" lang="en-US" sz="7200" spc="-1" strike="noStrike">
                <a:solidFill>
                  <a:srgbClr val="6600cc"/>
                </a:solidFill>
                <a:latin typeface="Calibri"/>
              </a:rPr>
              <a:t>d</a:t>
            </a:r>
            <a:r>
              <a:rPr b="1" lang="en-US" sz="7200" spc="-1" strike="noStrike">
                <a:solidFill>
                  <a:srgbClr val="ff00ff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ff99ff"/>
                </a:solidFill>
                <a:latin typeface="Calibri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mbria"/>
              </a:rPr>
              <a:t>By: Saria Hande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3200400" cy="2144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2743200" cy="212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514600" y="5029200"/>
            <a:ext cx="13716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76720" y="14479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lbertus MT"/>
              </a:rPr>
              <a:t>Para el desayuno me gusta comer los hue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4956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lbertus MT"/>
              </a:rPr>
              <a:t>Para el desayuno me gusta beber el zumo de nar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867280" y="4952880"/>
            <a:ext cx="2895840" cy="162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24080" y="35053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lbertus MT"/>
              </a:rPr>
              <a:t>Para el desayuno me gusta comer las crep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95288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lbertus MT"/>
              </a:rPr>
              <a:t>Para el desayuno me gusta comer el toc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ndara"/>
              </a:rPr>
              <a:t>El Almuer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48520" y="762120"/>
            <a:ext cx="2666880" cy="175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2724120" cy="22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905120" y="3962520"/>
            <a:ext cx="1657080" cy="2209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76720" y="14479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Bodoni"/>
              </a:rPr>
              <a:t>Para el alumerzo me gusta comer las papas fri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267080" y="3200400"/>
            <a:ext cx="2129040" cy="213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434340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Bodoni"/>
              </a:rPr>
              <a:t>Para el almuerzo me gusta beber la Coca-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27432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Bodoni"/>
              </a:rPr>
              <a:t>Para el almuerzo me gusta comer el bocadi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55627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doni"/>
              </a:rPr>
              <a:t>Para el almuerzo me gusta beber la batido de fru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a C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590920" cy="2414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581280" cy="2376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66680" y="4495680"/>
            <a:ext cx="1866960" cy="2048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31240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alibri"/>
              </a:rPr>
              <a:t>Para la cena me gusta comer el bift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4038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Para la cena me gusta comer el espague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648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alibri"/>
              </a:rPr>
              <a:t>Para la cena me gusta beber la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stellar"/>
              </a:rPr>
              <a:t>El Po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89548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05720" y="228600"/>
            <a:ext cx="2120760" cy="3809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429000" y="3581280"/>
            <a:ext cx="2624040" cy="3076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76720" y="1295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"/>
              </a:rPr>
              <a:t>Para el postre me gusta comer la tor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56386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Bradley Hand ITC"/>
              </a:rPr>
              <a:t>Para el postre me gusta beber el batido de le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43434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radley Hand ITC"/>
              </a:rPr>
              <a:t>Para el postre me gusta comer el he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12:27Z</dcterms:created>
  <dc:creator>handelmansar</dc:creator>
  <dc:description/>
  <dc:language>en-US</dc:language>
  <cp:lastModifiedBy>handelmansar</cp:lastModifiedBy>
  <dcterms:modified xsi:type="dcterms:W3CDTF">2012-04-05T17:12:24Z</dcterms:modified>
  <cp:revision>6</cp:revision>
  <dc:subject/>
  <dc:title>Las Comidas</dc:title>
</cp:coreProperties>
</file>